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019-0A5F-4A0F-B2DE-6772AE2F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D6D-5B75-4C07-92B8-7690A5BA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557-D1C3-41FC-8495-89FF20DD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3D8-46F8-4F9A-8FE5-7A2218B9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D39-E86D-4C94-A8DE-E72F49D6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CFC-A935-450D-AD38-4C9546DE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173-9C04-4050-8ED2-B156E24A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1D2-A954-4680-888D-1A97A2A6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8C9-691E-40D4-A452-B9EA020F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50F-556C-4ED7-B2D7-9A5F4D63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28C-D059-405D-96D4-1FD163B8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58F-3F76-406D-B101-8F5647D5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9C8F-D177-460A-8269-0F6225511EF4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HE_RD_ES Know How Ramp up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Minion"/>
              </a:rPr>
              <a:t>PHE RD </a:t>
            </a:r>
            <a:r>
              <a:rPr b="1" lang="zh-TW" sz="4800" spc="-1" strike="noStrike">
                <a:solidFill>
                  <a:srgbClr val="ffffff"/>
                </a:solidFill>
                <a:latin typeface="Minion"/>
              </a:rPr>
              <a:t>ES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J.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RD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1, 26.0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144-88F9-4F7B-8DA3-E59DC5F140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-sourcing of key Know How at PHE RD ES Munich: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Engineering service Munich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2 additional headcount as replacement of 2 key external engineers, who are not willing to change to BenQ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un/Solaris/Unix/Linux and data mgmt. for config. mgmt. system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indows OS/Active Directory/Novel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: replacement and know how transfer finished June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r know how transfer overlap of up to 3 month necessa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n-sourcing of 1 external engineer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ser Hotline Management and VIP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April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88A-ECF7-4B38-8A39-AACCA754ED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-sourcing of key Know How at PHE RD ES Klf: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439120" cy="482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Engineering service Klf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1 additional headcount as replacement of 1 key external engineer, who is not willing to change to BenQ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nix/Linux and data mgmt. for config. mgmt. system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: replacement and know how transfer finished June 06 (best case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r know how transfer overlap of up to 3 month necessa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n-sourcing of 2 external engineer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indows OS/Active Directory/Novell/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Scripting/Backup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April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0B6-CD8D-4B2A-8648-5593A52DFF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 H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836640"/>
            <a:ext cx="830592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Configuration management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tatus today: only 1 headcount in 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3 additional headcount in Munich / Kamp-Lintfor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ethodology, concepts, strategy, tool design, scripting architectu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aching and alignment with sites and proje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cripting, tests, administration, 2nd level support, license mgmt.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July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3B9-162F-4C5A-9A4C-FCF1BF78CA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 H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836640"/>
            <a:ext cx="83059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Requirements engineering (Doors)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tatus today: only 1 headcount in 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7 External, thereof 2 from PBM supporting Key Know How (see below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2 additional headcount in Munich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ethodology, concepts, strategy, tool design,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aching / train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July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609-FAC2-43DA-903C-19E1C97859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 H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055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Project planning (Primavera)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cided to be integrated in 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ransfer from Aal to Munich necessa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tatus today: 6 engineers in Aal, thereof 2 plann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4 additional headcount in Munich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ethodology, concepts, strateg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ports and Controlling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aching / train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ool administration, hotline, 2nd and 3rd level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July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8E5-920A-4AA5-913E-CE9FF2ABF6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 H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055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Further tools to be decided how to handle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troduction of Testdirecto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hange Request ligh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lear Ques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ay need additional Know How ramp up in R&amp;D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1B0-7992-4A48-992B-07E83891C3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764676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Summarization of targets for headcount increase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2565360"/>
          <a:ext cx="8218440" cy="2524320"/>
        </p:xfrm>
        <a:graphic>
          <a:graphicData uri="http://schemas.openxmlformats.org/drawingml/2006/table">
            <a:tbl>
              <a:tblPr/>
              <a:tblGrid>
                <a:gridCol w="1044360"/>
                <a:gridCol w="1198800"/>
                <a:gridCol w="853920"/>
                <a:gridCol w="852480"/>
                <a:gridCol w="854280"/>
                <a:gridCol w="853920"/>
                <a:gridCol w="854280"/>
                <a:gridCol w="852480"/>
                <a:gridCol w="8539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rz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Apr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ai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Jun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Jul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Aug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ep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M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Kl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onf. Mgm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Req. Mgm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rimav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u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7C1-E5E0-4C9E-8C76-F2AD760190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1-30T09:14:37Z</dcterms:modified>
  <cp:revision>125</cp:revision>
  <dc:subject/>
  <dc:title>PowerPoint 簡報</dc:title>
</cp:coreProperties>
</file>